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C44-1302-452C-ADE4-D512DFD6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EE2-E623-42DD-B5B7-F8A8FE27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07F-77B4-4525-84D1-B808B574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70A-5D34-4A6F-80BC-ABD8C78C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E8F-BE44-4698-B57C-395088DE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FD1-C8A6-40E4-9EA9-15E4CF7D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AD6-5251-4EB4-9339-F1E4BE3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0F4-F110-4F1A-AFC4-BCA9709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779-7B8E-45C0-B777-4F5F0658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A27-C281-4306-B1F2-3430C61E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55A-D393-4D21-B43F-8190945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F6F-A90C-4F4A-A978-1C4A497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893-680E-43D5-9FF1-FCCC8F19DC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history.navy.mil/photos/images/g310000/g312018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life in World War 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y Mike Siev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 served in the Navy during WW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mike-sievers-world-war-2jpg-d5caceca2f3e7080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17960" cy="315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48156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arl Harbor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cember 7, 1941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878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dern Pearl Harb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3807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ttle of Midway!</a:t>
            </a:r>
            <a:br>
              <a:rPr sz="4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ost important naval battle of the Pacific campaign in WW2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rem_batt_midway_logo_a1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808440" cy="3808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514600"/>
            <a:ext cx="31244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50:02Z</dcterms:created>
  <dc:creator>Information Technology</dc:creator>
  <dc:description/>
  <dc:language>en-US</dc:language>
  <cp:lastModifiedBy>Information Technology</cp:lastModifiedBy>
  <dcterms:modified xsi:type="dcterms:W3CDTF">2010-02-11T13:09:16Z</dcterms:modified>
  <cp:revision>3</cp:revision>
  <dc:subject/>
  <dc:title>My life in World War II</dc:title>
</cp:coreProperties>
</file>